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0DAD-BEC1-410D-8C09-CA4FD2E8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3E35-79FE-4F48-8EE6-0A4EAF05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FAAB-8AD9-406A-A4FB-B30D2504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9E22-B40B-4CE9-938E-2AAA9AA0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4698-85C2-4E15-9C5D-159F7D1B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FDE2-FFC9-4202-A527-17203C29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7DE1-DA6E-4EC4-BDA8-329877A5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5EE2-03AA-4B14-998D-510C4127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D606-5071-4993-82F1-EB854139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FD50-4D81-42CE-B0E6-F81CE5F8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B23C-CF70-4151-A718-F7D9AC02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742C-A61A-46CD-BDFC-8471440A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624B-59F4-45AF-96D5-1DCA37C0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8EFD-8DE5-4DD6-8E8A-328DA900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8A8F-79E8-404B-BD44-9E82CD89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2662-8630-4167-84D0-95B40EC1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7DD5-578A-4DA6-BF88-A7FA5BD1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59BD-5563-4314-8BA5-F2706500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942C-463D-4028-ABD7-441B3E3C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BF80-01ED-4537-9B27-2E861270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3C11-3567-43B0-92B6-8655B674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DA01-BAB6-4298-A972-F1208DDB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EFFE-3B35-47A4-9725-76431540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3415-9551-4F71-BAE2-D971A93A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1B77-476E-41C9-9D64-00D7D8ABD0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361D-8CAF-4B66-BAFD-522BF45DCF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5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55.wmf"/><Relationship Id="rId3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4.wmf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9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3.wmf"/><Relationship Id="rId3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dratic and Rational Inequa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95280" y="2135160"/>
          <a:ext cx="647712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35160"/>
                    <a:ext cx="647712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523880" y="266760"/>
          <a:ext cx="6629400" cy="13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66760"/>
                    <a:ext cx="662940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AutoShape 3"/>
          <p:cNvSpPr/>
          <p:nvPr/>
        </p:nvSpPr>
        <p:spPr>
          <a:xfrm>
            <a:off x="304920" y="304920"/>
            <a:ext cx="533160" cy="152280"/>
          </a:xfrm>
          <a:prstGeom prst="rightArrow">
            <a:avLst>
              <a:gd name="adj1" fmla="val 50000"/>
              <a:gd name="adj2" fmla="val 8753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4"/>
          <p:cNvSpPr/>
          <p:nvPr/>
        </p:nvSpPr>
        <p:spPr>
          <a:xfrm>
            <a:off x="1371600" y="22860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27432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502920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514600" y="2362320"/>
          <a:ext cx="457200" cy="39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362320"/>
                    <a:ext cx="4572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876920" y="2286000"/>
          <a:ext cx="3524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2286000"/>
                    <a:ext cx="352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990720" y="2819520"/>
          <a:ext cx="6933960" cy="203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2819520"/>
                    <a:ext cx="6933960" cy="20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914400" y="4838760"/>
          <a:ext cx="6019920" cy="1896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4838760"/>
                    <a:ext cx="6019920" cy="18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AutoShape 11"/>
          <p:cNvSpPr/>
          <p:nvPr/>
        </p:nvSpPr>
        <p:spPr>
          <a:xfrm>
            <a:off x="6781680" y="6477120"/>
            <a:ext cx="533520" cy="75960"/>
          </a:xfrm>
          <a:prstGeom prst="rightArrow">
            <a:avLst>
              <a:gd name="adj1" fmla="val 50000"/>
              <a:gd name="adj2" fmla="val 17559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1" dur="1" fill="hold"/>
                                  <p:tgtEl>
                                    <p:spTgt spid="2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Line 2"/>
          <p:cNvSpPr/>
          <p:nvPr/>
        </p:nvSpPr>
        <p:spPr>
          <a:xfrm>
            <a:off x="1676520" y="9144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3"/>
          <p:cNvSpPr/>
          <p:nvPr/>
        </p:nvSpPr>
        <p:spPr>
          <a:xfrm>
            <a:off x="3124080" y="83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5562720" y="762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971800" y="1000080"/>
          <a:ext cx="45720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000080"/>
                    <a:ext cx="4572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486400" y="990720"/>
          <a:ext cx="29376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990720"/>
                    <a:ext cx="2937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066680" y="1828800"/>
          <a:ext cx="6553440" cy="4191120"/>
        </p:xfrm>
        <a:graphic>
          <a:graphicData uri="http://schemas.openxmlformats.org/drawingml/2006/table">
            <a:tbl>
              <a:tblPr/>
              <a:tblGrid>
                <a:gridCol w="1600200"/>
                <a:gridCol w="1143000"/>
                <a:gridCol w="1189080"/>
                <a:gridCol w="1309680"/>
                <a:gridCol w="13114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v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 Poi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6431040" y="1905120"/>
          <a:ext cx="893520" cy="9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31040" y="1905120"/>
                    <a:ext cx="8935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143000" y="3262320"/>
          <a:ext cx="1371600" cy="500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3262320"/>
                    <a:ext cx="13716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1219320" y="4362480"/>
          <a:ext cx="1143000" cy="52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4362480"/>
                    <a:ext cx="11430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1295280" y="5442120"/>
          <a:ext cx="1067040" cy="550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95280" y="5442120"/>
                    <a:ext cx="106704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2971800" y="3295800"/>
          <a:ext cx="533520" cy="466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71800" y="3295800"/>
                    <a:ext cx="53352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971800" y="4191120"/>
          <a:ext cx="488880" cy="685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71800" y="4191120"/>
                    <a:ext cx="488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3005280" y="5334120"/>
          <a:ext cx="439560" cy="685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005280" y="5334120"/>
                    <a:ext cx="4395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191120" y="3382920"/>
          <a:ext cx="457200" cy="366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191120" y="3382920"/>
                    <a:ext cx="45720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5334120" y="3352680"/>
          <a:ext cx="457200" cy="366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34120" y="3352680"/>
                    <a:ext cx="45720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6477120" y="3276720"/>
          <a:ext cx="990360" cy="495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477120" y="3276720"/>
                    <a:ext cx="990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038480" y="4343400"/>
          <a:ext cx="533520" cy="533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038480" y="434340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5410080" y="4419720"/>
          <a:ext cx="457200" cy="366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410080" y="4419720"/>
                    <a:ext cx="45720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6400800" y="4457880"/>
          <a:ext cx="838080" cy="4190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400800" y="4457880"/>
                    <a:ext cx="8380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114800" y="5486400"/>
          <a:ext cx="533520" cy="533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114800" y="548640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5334120" y="5486400"/>
          <a:ext cx="533160" cy="533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334120" y="5486400"/>
                    <a:ext cx="5331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6477120" y="5486400"/>
          <a:ext cx="990360" cy="4953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477120" y="5486400"/>
                    <a:ext cx="990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AutoShape 64"/>
          <p:cNvSpPr/>
          <p:nvPr/>
        </p:nvSpPr>
        <p:spPr>
          <a:xfrm>
            <a:off x="380880" y="3808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AutoShape 65"/>
          <p:cNvSpPr/>
          <p:nvPr/>
        </p:nvSpPr>
        <p:spPr>
          <a:xfrm>
            <a:off x="7848720" y="6400800"/>
            <a:ext cx="761760" cy="152280"/>
          </a:xfrm>
          <a:prstGeom prst="rightArrow">
            <a:avLst>
              <a:gd name="adj1" fmla="val 50000"/>
              <a:gd name="adj2" fmla="val 1250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1219320" y="122400"/>
          <a:ext cx="6400800" cy="16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2400"/>
                    <a:ext cx="640080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1676520" y="1828800"/>
          <a:ext cx="449568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1828800"/>
                    <a:ext cx="449568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1600200" y="3200400"/>
          <a:ext cx="4114800" cy="121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3200400"/>
                    <a:ext cx="411480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676520" y="4648320"/>
          <a:ext cx="4952880" cy="958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4648320"/>
                    <a:ext cx="495288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Line 6"/>
          <p:cNvSpPr/>
          <p:nvPr/>
        </p:nvSpPr>
        <p:spPr>
          <a:xfrm>
            <a:off x="1295280" y="60958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048120" y="5867280"/>
          <a:ext cx="22860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5867280"/>
                    <a:ext cx="228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5410080" y="5943600"/>
          <a:ext cx="22860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5943600"/>
                    <a:ext cx="228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Line 9"/>
          <p:cNvSpPr/>
          <p:nvPr/>
        </p:nvSpPr>
        <p:spPr>
          <a:xfrm>
            <a:off x="1295280" y="6095880"/>
            <a:ext cx="18288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Line 10"/>
          <p:cNvSpPr/>
          <p:nvPr/>
        </p:nvSpPr>
        <p:spPr>
          <a:xfrm>
            <a:off x="5486400" y="6095880"/>
            <a:ext cx="18288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743200" y="6134040"/>
          <a:ext cx="507960" cy="44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43200" y="6134040"/>
                    <a:ext cx="5079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5410080" y="6172200"/>
          <a:ext cx="303480" cy="393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10080" y="6172200"/>
                    <a:ext cx="3034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1219320" y="6019920"/>
          <a:ext cx="228600" cy="228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19320" y="6019920"/>
                    <a:ext cx="228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7238880" y="6019920"/>
          <a:ext cx="228600" cy="228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238880" y="6019920"/>
                    <a:ext cx="228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actice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80880" y="2057400"/>
          <a:ext cx="25290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57400"/>
                    <a:ext cx="2529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Line 4"/>
          <p:cNvSpPr/>
          <p:nvPr/>
        </p:nvSpPr>
        <p:spPr>
          <a:xfrm>
            <a:off x="3733920" y="22860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419720" y="2130480"/>
          <a:ext cx="2057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130480"/>
                    <a:ext cx="20574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4343400" y="3143160"/>
          <a:ext cx="1371600" cy="53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3143160"/>
                    <a:ext cx="13716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4191120" y="4343400"/>
          <a:ext cx="32004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1120" y="4343400"/>
                    <a:ext cx="32004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4648320" y="5943600"/>
          <a:ext cx="1295280" cy="566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5943600"/>
                    <a:ext cx="12952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8" dur="1" fill="hold"/>
                                  <p:tgtEl>
                                    <p:spTgt spid="2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ving Quadratic Inequa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 1: write the inequality in standard for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 2: solve the related quadratic equ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 3: locate the boundary points on a number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 4: construct a sign char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 5: the solution set is the interval that produced a true state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1: Solve a Quadratic Inequa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219320" y="1905120"/>
          <a:ext cx="4038480" cy="71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05120"/>
                    <a:ext cx="403848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219320" y="3276720"/>
          <a:ext cx="449568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276720"/>
                    <a:ext cx="449568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143000" y="4267080"/>
          <a:ext cx="3429000" cy="77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267080"/>
                    <a:ext cx="342900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219320" y="2743200"/>
          <a:ext cx="1676160" cy="509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2743200"/>
                    <a:ext cx="167616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143000" y="5181480"/>
          <a:ext cx="7467480" cy="559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5181480"/>
                    <a:ext cx="746748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AutoShape 9"/>
          <p:cNvSpPr/>
          <p:nvPr/>
        </p:nvSpPr>
        <p:spPr>
          <a:xfrm>
            <a:off x="6172200" y="617220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3"/>
          <p:cNvSpPr/>
          <p:nvPr/>
        </p:nvSpPr>
        <p:spPr>
          <a:xfrm>
            <a:off x="1219320" y="609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62120" y="1752480"/>
          <a:ext cx="632448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632448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Line 5"/>
          <p:cNvSpPr/>
          <p:nvPr/>
        </p:nvSpPr>
        <p:spPr>
          <a:xfrm>
            <a:off x="914400" y="457200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274320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5105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90920" y="4648320"/>
          <a:ext cx="380880" cy="3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648320"/>
                    <a:ext cx="3808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5029200" y="4648320"/>
          <a:ext cx="24624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4648320"/>
                    <a:ext cx="246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914400" y="5025960"/>
          <a:ext cx="6019920" cy="177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5025960"/>
                    <a:ext cx="601992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AutoShape 12"/>
          <p:cNvSpPr/>
          <p:nvPr/>
        </p:nvSpPr>
        <p:spPr>
          <a:xfrm>
            <a:off x="6400800" y="64008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" dur="1" fill="hold"/>
                                  <p:tgtEl>
                                    <p:spTgt spid="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a test point within each interval and check the sign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182600" y="2017800"/>
          <a:ext cx="7885080" cy="4116240"/>
        </p:xfrm>
        <a:graphic>
          <a:graphicData uri="http://schemas.openxmlformats.org/drawingml/2006/table">
            <a:tbl>
              <a:tblPr/>
              <a:tblGrid>
                <a:gridCol w="1943280"/>
                <a:gridCol w="1446120"/>
                <a:gridCol w="1066680"/>
                <a:gridCol w="914400"/>
                <a:gridCol w="25146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 Interv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 P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+1)(x-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295280" y="3276720"/>
          <a:ext cx="152424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276720"/>
                    <a:ext cx="152424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429000" y="3243240"/>
          <a:ext cx="60948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243240"/>
                    <a:ext cx="6094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6918480" y="3193920"/>
          <a:ext cx="947520" cy="47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8480" y="3193920"/>
                    <a:ext cx="94752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447920" y="4273560"/>
          <a:ext cx="1143000" cy="55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4273560"/>
                    <a:ext cx="11430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3646440" y="4343400"/>
          <a:ext cx="49068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46440" y="4343400"/>
                    <a:ext cx="490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4876920" y="4419720"/>
          <a:ext cx="45720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920" y="441972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791320" y="4419720"/>
          <a:ext cx="533160" cy="426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91320" y="4419720"/>
                    <a:ext cx="5331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705720" y="4384800"/>
          <a:ext cx="121896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05720" y="4384800"/>
                    <a:ext cx="12189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943600" y="3352680"/>
          <a:ext cx="533520" cy="427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943600" y="3352680"/>
                    <a:ext cx="53352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800600" y="3276720"/>
          <a:ext cx="533520" cy="426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00600" y="3276720"/>
                    <a:ext cx="53352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447920" y="5313240"/>
          <a:ext cx="990360" cy="528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47920" y="5313240"/>
                    <a:ext cx="99036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710160" y="5410080"/>
          <a:ext cx="4111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710160" y="5410080"/>
                    <a:ext cx="411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952880" y="5410080"/>
          <a:ext cx="457200" cy="457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52880" y="541008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5867280" y="5410080"/>
          <a:ext cx="457200" cy="457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867280" y="541008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7010280" y="5334120"/>
          <a:ext cx="947880" cy="4744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010280" y="5334120"/>
                    <a:ext cx="9478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AutoShape 91"/>
          <p:cNvSpPr/>
          <p:nvPr/>
        </p:nvSpPr>
        <p:spPr>
          <a:xfrm>
            <a:off x="304920" y="304920"/>
            <a:ext cx="533160" cy="152280"/>
          </a:xfrm>
          <a:prstGeom prst="rightArrow">
            <a:avLst>
              <a:gd name="adj1" fmla="val 50000"/>
              <a:gd name="adj2" fmla="val 8753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AutoShape 92"/>
          <p:cNvSpPr/>
          <p:nvPr/>
        </p:nvSpPr>
        <p:spPr>
          <a:xfrm>
            <a:off x="6705720" y="640080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2"/>
          <p:cNvSpPr/>
          <p:nvPr/>
        </p:nvSpPr>
        <p:spPr>
          <a:xfrm>
            <a:off x="380880" y="380880"/>
            <a:ext cx="457200" cy="7632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143000" y="685800"/>
          <a:ext cx="7391520" cy="6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5800"/>
                    <a:ext cx="73915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143000" y="1852560"/>
          <a:ext cx="5943600" cy="22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852560"/>
                    <a:ext cx="5943600" cy="22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143000" y="4348080"/>
          <a:ext cx="4419720" cy="14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348080"/>
                    <a:ext cx="441972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9" dur="1" fill="hold"/>
                                  <p:tgtEl>
                                    <p:spTgt spid="1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actice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8600" y="2584440"/>
          <a:ext cx="4114800" cy="33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84440"/>
                    <a:ext cx="411480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6019920" y="2438280"/>
          <a:ext cx="1752480" cy="5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2438280"/>
                    <a:ext cx="17524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Line 5"/>
          <p:cNvSpPr/>
          <p:nvPr/>
        </p:nvSpPr>
        <p:spPr>
          <a:xfrm>
            <a:off x="4800600" y="27432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324480" y="3505320"/>
          <a:ext cx="91440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505320"/>
                    <a:ext cx="9144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5181480" y="4419720"/>
          <a:ext cx="18288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4419720"/>
                    <a:ext cx="1828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095880" y="5486400"/>
          <a:ext cx="1447920" cy="636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5486400"/>
                    <a:ext cx="14479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Box 8"/>
          <p:cNvSpPr/>
          <p:nvPr/>
        </p:nvSpPr>
        <p:spPr>
          <a:xfrm>
            <a:off x="7086600" y="4419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except 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8" dur="1" fill="hold"/>
                                  <p:tgtEl>
                                    <p:spTgt spid="1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ving Rational Inequa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219320" y="1752480"/>
          <a:ext cx="293364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29336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1447920" y="2849400"/>
          <a:ext cx="6172200" cy="388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849400"/>
                    <a:ext cx="6172200" cy="38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2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343400" y="762120"/>
          <a:ext cx="293364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762120"/>
                    <a:ext cx="29336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762120" y="1965240"/>
          <a:ext cx="6400800" cy="17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965240"/>
                    <a:ext cx="640080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0" y="3740040"/>
          <a:ext cx="9144000" cy="65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740040"/>
                    <a:ext cx="914400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914400" y="4314960"/>
          <a:ext cx="4648320" cy="688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4314960"/>
                    <a:ext cx="464832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914400" y="5013360"/>
          <a:ext cx="1066680" cy="49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5013360"/>
                    <a:ext cx="106668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914400" y="5410080"/>
          <a:ext cx="4191120" cy="81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5410080"/>
                    <a:ext cx="41911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762120" y="6307200"/>
          <a:ext cx="5638680" cy="550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120" y="6307200"/>
                    <a:ext cx="56386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AutoShape 10"/>
          <p:cNvSpPr/>
          <p:nvPr/>
        </p:nvSpPr>
        <p:spPr>
          <a:xfrm>
            <a:off x="7238880" y="64008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1" dur="1" fill="hold"/>
                                  <p:tgtEl>
                                    <p:spTgt spid="2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5:15:51Z</dcterms:created>
  <dc:creator> Kamal Hennayake</dc:creator>
  <dc:description/>
  <dc:language>en-US</dc:language>
  <cp:lastModifiedBy>SHS</cp:lastModifiedBy>
  <dcterms:modified xsi:type="dcterms:W3CDTF">2009-09-29T18:51:44Z</dcterms:modified>
  <cp:revision>14</cp:revision>
  <dc:subject/>
  <dc:title>1.6 Quadratic and Rational Inequalities</dc:title>
</cp:coreProperties>
</file>